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E72-2576-4AB7-96D2-ED22A022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53A-00EF-4C25-BAA4-03492403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4CF-A4F9-4F11-8F68-070323D2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0D2-B401-4A24-8470-D4ED11BA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12C-2F39-42B2-BE15-73775A5C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1017-3253-49C3-B7AF-F61521CB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C81-9E86-4774-911D-3DB170DC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EF05-FF57-4E78-A123-21B0DC21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C715-81F8-4884-B1D4-29540DD1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80D-B338-4742-A17D-5C995775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23D-4608-4A14-8F1F-06100FB5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187-AE58-44E7-BC77-E64FCDFA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F14A-D66A-4F3F-B2A1-C83E60678D8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dom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Jacks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Freedom rests on more political participation for the average white farmer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 Use broad presidential power outside of war to accomplish this (Trail of Tears, Veto the Bank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Lincol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Freedom rests on freedom to labor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 Broadly define Presidential War Time Powers to accomplish this by ending slavery (Civil War &amp; Emancipation Proclamatio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Radical Republican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Freedom rests on the possession of Civil Rights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 Expand the authority of the National Government and Empower Congress with the ability to pass Civil Rights Legislation (Reconstruction Amendment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Progressi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Freedom rests on economic fairness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 State and national governments need to promote laws that limit the power of corporations and promote the rights of work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Franklin Roosevel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Freedom relies on economic security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 Expand the national government and its powers to intervene in both the national economy and our personal economies to achieve macro and micro level economic secur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Didot"/>
                <a:ea typeface="Didot"/>
              </a:rPr>
              <a:t>In so doing, recast the idea of freedom by linking it the expanding power of the nation-state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Changing Federal Authority in the 1960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The 1960s represents the next wave of growth and expansion of federal authorities in modern US histo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Made possible by the policies of two presid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John F. Kenned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he New Front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idot"/>
                <a:ea typeface="Didot"/>
              </a:rPr>
              <a:t>Lyndon B. Johns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The Great Socie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Outlines a new philosophy o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the role of gover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Tremendous expansion in the siz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Didot"/>
                <a:ea typeface="Didot"/>
              </a:rPr>
              <a:t>of the gover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5605560" y="3276720"/>
            <a:ext cx="3568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Lyndon John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560" y="1219320"/>
            <a:ext cx="4800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1908-197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From Tex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Was a teacher prior to getting involved in politic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First comes to office by way of succession, but runs on his own and wins election in 1964 by a significant margin over Barry Goldwat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One of only 4 people to be a Representative, Senator, VP, and Presiden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Didot"/>
                <a:ea typeface="Didot"/>
              </a:rPr>
              <a:t>Mixed presidential legacy: impressive civil and economic rights agenda contrasted with the Vietnam disast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45529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7640" y="7920"/>
            <a:ext cx="914400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Johnson’s Great Society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Package of domestic poli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Johnson proposed betwe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1965 and 1968 to deal with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variety of social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economic problems fac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the United St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Civil Rights, Education, Poverty, Environmental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435 bills pushed through Congress dealing with these problems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LBJ able to do so much beca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Didot"/>
                <a:ea typeface="Dido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Landslide Lyndon</a:t>
            </a:r>
            <a:r>
              <a:rPr b="0" lang="ja-JP" sz="2200" spc="-1" strike="noStrike">
                <a:solidFill>
                  <a:srgbClr val="000000"/>
                </a:solidFill>
                <a:latin typeface="Didot"/>
                <a:ea typeface="Dido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: 1964 election swept Democrats into majority in both houses, enormous mandate for LBJ (61% pop. vo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Kennedy legacy and assass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4876920" y="762120"/>
            <a:ext cx="42670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"/>
          <p:cNvPicPr/>
          <p:nvPr/>
        </p:nvPicPr>
        <p:blipFill>
          <a:blip r:embed="rId1"/>
          <a:srcRect l="1158" t="0" r="1158" b="0"/>
          <a:stretch/>
        </p:blipFill>
        <p:spPr>
          <a:xfrm>
            <a:off x="-4680" y="60948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What is the Great Socie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193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We will listen to &amp; read a commencement address given by Johnson at the University of Michigan in which he outlines the goals of the Great Socie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idot"/>
                <a:ea typeface="Didot"/>
              </a:rPr>
              <a:t>As you watch &amp; read take notes on the programs and goals Johnson outlin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143680" y="1828800"/>
            <a:ext cx="4000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Legislative Accomplishments of the Great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Take a look at a list of </a:t>
            </a:r>
            <a:r>
              <a:rPr b="0" i="1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Didot"/>
                <a:ea typeface="Didot"/>
              </a:rPr>
              <a:t> of the legislative accomplishments Johnson achieved as part of the Great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idot"/>
                <a:ea typeface="Didot"/>
              </a:rPr>
              <a:t>Great Society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520" y="10666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hat is the Great Socie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What is the philosophy on the role of federal authority Johnson articulates through the Great Socie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Is Johnson using federal authority to promote democrac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idot"/>
                <a:ea typeface="Didot"/>
              </a:rPr>
              <a:t>How does Johnson’s view of federal authority/democracy compare with past er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idot"/>
                <a:ea typeface="Didot"/>
              </a:rPr>
              <a:t>Other Points to Add to Johnson’s Philosophy of Govern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If these didn’t come up, we should also note tha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Johnson moves the government to one that reacts to social/economic problems to one that is proactive in dealing with social/economic 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How can we stop the problems before they star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Job Training, Head Sta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Redefines the definition of nee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Needy are not just the disabled and the aged, needy are also the poor (whether they work or no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idot"/>
                <a:ea typeface="Didot"/>
              </a:rPr>
              <a:t>Medicaid, HUD and Ren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idot"/>
                <a:ea typeface="Didot"/>
              </a:rPr>
              <a:t>Broadens the definition of “citizen” – who the government is responsible to: blacks, women, immigrants, the poor –those who do not have a voic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03:49:28Z</dcterms:created>
  <dc:creator>US</dc:creator>
  <dc:description/>
  <dc:language>en-US</dc:language>
  <cp:lastModifiedBy>Crystal Bartels</cp:lastModifiedBy>
  <dcterms:modified xsi:type="dcterms:W3CDTF">2015-12-03T20:25:01Z</dcterms:modified>
  <cp:revision>49</cp:revision>
  <dc:subject/>
  <dc:title>The Great Society</dc:title>
</cp:coreProperties>
</file>